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1115-41AF-4493-B306-E0AE6C03C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4725-2992-49D9-A323-ACEEC86B2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DF92-66A6-47EE-80C4-BD944000E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A656-847C-4C8A-A3E5-485DC1900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C544-D69F-417F-9A79-C4C77834B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729A-47B7-433D-81CB-A55D30728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FF7B-1384-4607-B4B3-69405FA76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3136-38A2-47CF-922A-5122E0992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5D01-7E7A-4B90-A865-C57CAB4C4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6FF5-D27C-4CC9-802B-7557DFBF9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9B83-C1D7-4A83-84F4-46E21F93F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818A-3BE2-4129-9492-FDEBBDD66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3B8A-B825-4B1E-8235-27D4F33A7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DA90-ED11-4757-A6D2-AC4F0E8FC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5FCC-FB9C-4DBF-BBEA-0309FA964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16AF-0A72-4308-89DB-B166255AC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BBF6-BC0F-4DA2-A4DA-5115B82EF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658D-C6DA-4CFA-B316-80311D1E0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582B-95EA-4076-92B2-C28394B60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8968-4A97-4F18-B4AB-49D05B7D8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2AA3-DD8C-49C7-A1AE-2AE3C88B5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A636-BFFB-452D-86A4-433CD3A29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AD62-63C2-4138-81B2-9F63F145A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48EA-91D8-4111-8396-023D0ED29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8487-7A79-4D88-AAC9-122317338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A241-951E-4964-8529-C9FB9C5E1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635E-04FB-4F04-B88F-1833EA7F0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6A08-67AA-4513-9829-B7B69B703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AA90-E770-4D0E-81EE-AF06C8F03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AFAB-619C-4C0E-96EE-CEDE0795D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8B62-E59C-40F8-9191-2759D6A0D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30E9-3BF1-4CB0-B33F-3E63AB26B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44F3-B8E3-46B2-B2AA-57401789B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A527-C60E-4FE4-A2DD-C9442F60A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5F66-7EA4-4894-A7A7-3BA478124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BA9E-969B-46A8-95DE-76813059B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815B-4C8F-469C-92D3-EEAAA5C5B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B9C9-1549-447F-A429-99B7633D0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2505-D361-4CCB-8C1A-46188D3E5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B711-751B-4DD0-B328-4B0C68683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3771-0E9A-4027-920F-35205E4EB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F767-4AD6-4A75-99C4-063790A73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DA2D-9AED-4131-AFDA-F536BC6D4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AACD-6B36-47B2-A30F-C5AAC1157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66D8-8FD4-4976-B54B-67E52AAE5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4E94-B4AE-46BA-AE71-52A5CC0A0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1779-65FE-4ECF-B928-AEF323F9B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9475-46BE-4D37-B13E-036FEE874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10BE-914F-4868-823D-C8364A4D3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C887-51FB-469D-9D3B-63A7A69C8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AA20-F2AE-49D6-BA5E-8258915DB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97FA-1F26-4847-AC5D-F7237B358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9285-E327-459D-A5FF-A2C822DC8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A4ED-0C1E-46FC-90CB-0F7CC9AB3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A5CA-BC3A-4E23-80D8-80D446A17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4E99-EDBD-404A-8B76-503F1DCA3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15C3-4337-4C2D-AC8F-F27BA6A96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07E6-44F8-43CF-AFCA-C0FAF9DBC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E490-A841-4DA6-B034-49C81A988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082A-644F-4CF4-BF5C-54D9276C2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7F3A-E3C5-4657-8B54-733DD9FAF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6933-4CC1-4E5C-A52A-C47F3F955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7F52-B1F5-403F-A70A-60FC33DCB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AB54-7FD6-4BE8-8E8D-BA9330137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70D1-4084-4B4F-978D-9D5A8B842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5283-0817-4461-9CD7-CB06606AD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D96A-D0A6-4840-B71E-8D97EC4A6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0EC0-3BA6-4E1A-A467-09A8C9BC5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F6FC-1A40-4D2D-9CA4-AF6F86B30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A624-10DA-4B78-8A93-A4E844DD1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9CA9-4E54-4D4F-AF0C-9D460CFDC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31C7-55AA-4CD6-89C3-21133F85A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CFE1-235D-4D4B-AD07-6EA35A8CC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B2A4-BC64-44C8-838A-C0C4DA527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DAC4-6B85-4D26-8B75-5F7267BD4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34E2-810C-4BAA-8020-69EA149F9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20B6-0786-4704-AE3B-2847709AA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5C95-7CB0-4986-9F8F-C965CA0A9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36FE-B7F0-4F50-AE52-D602164FD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8B14-1421-48FA-B896-626EC69EE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D295-DEDC-4D3D-868B-25972AEE0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ABA8-6F2F-43F3-B0E2-BC9BFC326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4FEC-1E66-45EA-87B5-B17130F0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8FE-04DB-451D-8487-07386C1A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295-FC16-4B91-A12A-99372A59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AC8A-4BA0-4EC6-B478-D981AB9A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2EF7-D600-4777-A0EB-610AC930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088-A6BC-4F01-A3DA-03B5E64D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708-4B58-4F12-A1F6-1A540B5B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748-19F1-47AB-96B0-51FD3203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798D-06B7-43D9-9F7F-506C4CCF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DB6-2134-4412-9DA5-7932B37D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780-800C-4B92-81DE-36F096F5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6105-A432-4985-AA0D-7D6005F4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18CF-9957-4A4C-BAE1-E09E24F1C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2819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larendon Cd (W1)"/>
              </a:rPr>
              <a:t>Cognitive Development:  Piaget’s and Vygotsky’s The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t each of Piaget’s stages of development, children’s thinking is assumed to be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qualitatively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different from their thinking at other stag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proposed that cognitive development occurs in an invariant sequenc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chemes are sets of physical actions, mental operations, concepts, or theories people use to acquire and organize information about their worl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distinguished between three types of knowledge: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3048120"/>
            <a:ext cx="67820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o-mathematical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Piaget’s theory two basic principles guide children’s intellectual development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Child’s Representation of “Eight” in Piaget’s Theory </a:t>
            </a:r>
            <a:br>
              <a:rPr sz="44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3.1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5" name="Picture 6" descr="mee32357_0301"/>
          <p:cNvPicPr/>
          <p:nvPr/>
        </p:nvPicPr>
        <p:blipFill>
          <a:blip r:embed="rId1"/>
          <a:stretch/>
        </p:blipFill>
        <p:spPr>
          <a:xfrm>
            <a:off x="2133720" y="2362320"/>
            <a:ext cx="52578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used the terms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ssimilation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ccommodation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describe how children adapt to their environ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rough the process of assimilation children mold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ew information to fit their existing schem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rocess of changing existing schemata is called accommodatio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s an interactional theorist, Piaget viewed development as a complex interaction of innate and environmental factor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roposition underlying a constructivist approach is that children must construct their own understandings of the world in which they liv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ccording to Piaget, the following four factors contribute to children’s cognitive development: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62120" y="3809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turation of inherited physic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hysical experiences with th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cial transmission of information and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quilib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Picture 2"/>
          <p:cNvPicPr/>
          <p:nvPr/>
        </p:nvPicPr>
        <p:blipFill>
          <a:blip r:embed="rId1"/>
          <a:stretch/>
        </p:blipFill>
        <p:spPr>
          <a:xfrm>
            <a:off x="1066680" y="1143000"/>
            <a:ext cx="7513920" cy="4662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590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bject permanence involves the knowledge that objects continue to exist even when they can no longer be seen or acted o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ability to think about objects, events, or people in their absence marks the beginning of the preoperational stag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used the term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preoperational stage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ecause preschool children lack the ability to do some of the logical operations he observed in older childre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590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ing the preoperational stage, children can use symbols as a tool to think about their environ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ong with an increased ability to use words and images as symbols, children begin to use numbers as a tool for thinking during the preschool year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Picture 2"/>
          <p:cNvPicPr/>
          <p:nvPr/>
        </p:nvPicPr>
        <p:blipFill>
          <a:blip r:embed="rId1"/>
          <a:stretch/>
        </p:blipFill>
        <p:spPr>
          <a:xfrm>
            <a:off x="1962000" y="1258920"/>
            <a:ext cx="5218200" cy="4340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found that young  children’s conceptions of the world are characterized by animism; that is, they do not distinguish between animate (living) and inanimate (mechanical) object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ren’s intuitive understandings of their physical and biological concepts are a little more sophisticated than Piaget believe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structivism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s the basi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many current reform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educatio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Picture 2"/>
          <p:cNvPicPr/>
          <p:nvPr/>
        </p:nvPicPr>
        <p:blipFill>
          <a:blip r:embed="rId1"/>
          <a:stretch/>
        </p:blipFill>
        <p:spPr>
          <a:xfrm>
            <a:off x="1200240" y="1519200"/>
            <a:ext cx="67420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Metacognition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s “thinking about thinking,”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d it plays a very important role in children’s cognitive development during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middle childhood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d adolescent year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erceiving and interpreting the world in terms of self is called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egocentrism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ree-year-old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em to have what are called collective monologues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which their remark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 each other are unrelate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590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Centration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means that young children tend to focus or center their attention on only one aspect of a stimulu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erspective-Taking Task </a:t>
            </a:r>
            <a:br>
              <a:rPr sz="44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3.3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7" name="Picture 4" descr="mee32357_0303"/>
          <p:cNvPicPr/>
          <p:nvPr/>
        </p:nvPicPr>
        <p:blipFill>
          <a:blip r:embed="rId1"/>
          <a:stretch/>
        </p:blipFill>
        <p:spPr>
          <a:xfrm>
            <a:off x="1066680" y="1905120"/>
            <a:ext cx="7467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elementary years, children begin to use mental operations and logic to think about events and objects in their environ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the concrete operational stage: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ing appears to be less rig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ild understands that operations can be mentally reversed or neg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riation Task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3.4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2" name="Picture 4" descr="mee32357_0304"/>
          <p:cNvPicPr/>
          <p:nvPr/>
        </p:nvPicPr>
        <p:blipFill>
          <a:blip r:embed="rId1"/>
          <a:stretch/>
        </p:blipFill>
        <p:spPr>
          <a:xfrm>
            <a:off x="38160" y="1981080"/>
            <a:ext cx="91058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Seriation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nvolves the ability to order objects in a logical progressio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had a major impact on the way we think about children’s develop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assification is a skill that begins to emerg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early childhoo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trix Classification Task </a:t>
            </a:r>
            <a:br>
              <a:rPr sz="44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3.5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6" name="Picture 4" descr="mee32357_0305"/>
          <p:cNvPicPr/>
          <p:nvPr/>
        </p:nvPicPr>
        <p:blipFill>
          <a:blip r:embed="rId1"/>
          <a:stretch/>
        </p:blipFill>
        <p:spPr>
          <a:xfrm>
            <a:off x="2895480" y="1828800"/>
            <a:ext cx="34974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re There More Dogs or Animals?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3.6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8" name="Picture 4" descr="mee32357_0306"/>
          <p:cNvPicPr/>
          <p:nvPr/>
        </p:nvPicPr>
        <p:blipFill>
          <a:blip r:embed="rId1"/>
          <a:stretch/>
        </p:blipFill>
        <p:spPr>
          <a:xfrm>
            <a:off x="1752480" y="1905120"/>
            <a:ext cx="53024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7428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servation involves the understanding that an entity remains the same despite superficial changes in its form or physical appearanc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Picture 3"/>
          <p:cNvPicPr/>
          <p:nvPr/>
        </p:nvPicPr>
        <p:blipFill>
          <a:blip r:embed="rId1"/>
          <a:stretch/>
        </p:blipFill>
        <p:spPr>
          <a:xfrm>
            <a:off x="2666880" y="1295280"/>
            <a:ext cx="3873600" cy="4124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Propositional logic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nvolves the ability to draw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logical inferenc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ased on the relationship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etween two statements or premis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mee32357_0307"/>
          <p:cNvPicPr/>
          <p:nvPr/>
        </p:nvPicPr>
        <p:blipFill>
          <a:blip r:embed="rId1"/>
          <a:stretch/>
        </p:blipFill>
        <p:spPr>
          <a:xfrm>
            <a:off x="1523880" y="1828800"/>
            <a:ext cx="5641920" cy="4006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endulum Task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3.7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called the ability to generate and test hypotheses in a logical and systematic manner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hypothetico-deductive thinking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emistry Task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3.8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6" name="Picture 4" descr="mee32357_0308"/>
          <p:cNvPicPr/>
          <p:nvPr/>
        </p:nvPicPr>
        <p:blipFill>
          <a:blip r:embed="rId1"/>
          <a:stretch/>
        </p:blipFill>
        <p:spPr>
          <a:xfrm>
            <a:off x="457200" y="1828800"/>
            <a:ext cx="79246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ability to think about multiple causes is </a:t>
            </a:r>
            <a:br>
              <a:rPr sz="4400"/>
            </a:b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combinatorial reasoning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taught us that children act as “little scientists,” trying to make sense of their world.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atio Task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3.9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9" name="Picture 4" descr="mee32357_0309"/>
          <p:cNvPicPr/>
          <p:nvPr/>
        </p:nvPicPr>
        <p:blipFill>
          <a:blip r:embed="rId1"/>
          <a:stretch/>
        </p:blipFill>
        <p:spPr>
          <a:xfrm>
            <a:off x="2666880" y="1523880"/>
            <a:ext cx="3481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Picture 2"/>
          <p:cNvPicPr/>
          <p:nvPr/>
        </p:nvPicPr>
        <p:blipFill>
          <a:blip r:embed="rId1"/>
          <a:stretch/>
        </p:blipFill>
        <p:spPr>
          <a:xfrm>
            <a:off x="2598840" y="1563840"/>
            <a:ext cx="3944880" cy="3728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has received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most criticism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his idea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bout the qualitative natur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cognitive develop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Picture 2"/>
          <p:cNvPicPr/>
          <p:nvPr/>
        </p:nvPicPr>
        <p:blipFill>
          <a:blip r:embed="rId1"/>
          <a:stretch/>
        </p:blipFill>
        <p:spPr>
          <a:xfrm>
            <a:off x="1935000" y="1504800"/>
            <a:ext cx="5272200" cy="3846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Neo-Piagetian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heorie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ave attempted to add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eater specificity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 developmental changes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ile maintaining the basic assumptions of Piaget’s theor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Picture 2"/>
          <p:cNvPicPr/>
          <p:nvPr/>
        </p:nvPicPr>
        <p:blipFill>
          <a:blip r:embed="rId1"/>
          <a:stretch/>
        </p:blipFill>
        <p:spPr>
          <a:xfrm>
            <a:off x="1679400" y="1752480"/>
            <a:ext cx="57834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captured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ny of the major trend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children’s thinking.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uch of Piaget’s research focused on children’s development of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ogical, scientific, and mathematical concept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2514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ne of the most important contributions of Piaget’s work concerns the purpose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d goals of educatio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second most important contribution of Piaget’s research is the idea that knowledg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s constructed from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child’s own physical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d mental activiti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ren have their own logic and ways of knowing, which follow predictable patterns of development as children biologically mature and interact with the worl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’s theory also emphasizes the important role of play in children’s develop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v Vygotsky was a major figure in Russian psycholog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ygotsky’s theory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resses relations betwee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individual and societ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ygotsky is considered one of the earliest critics of Piaget’s theory of cognitive develop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ccording to Vygotsky, children are born with elementary mental abilities such as perception, attention, and memor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ygotsky defined cognitive development in terms of qualitative changes in children’s thinking process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ygotsky believed language was an important psychological tool which influenced children’s cognitive develop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ygotsky identified three stages in children’s use of language: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3526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ocen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er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Picture 3"/>
          <p:cNvPicPr/>
          <p:nvPr/>
        </p:nvPicPr>
        <p:blipFill>
          <a:blip r:embed="rId1"/>
          <a:stretch/>
        </p:blipFill>
        <p:spPr>
          <a:xfrm>
            <a:off x="1755720" y="2519280"/>
            <a:ext cx="563076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pared with Piaget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ygotsky also placed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stronger emphasis on cultur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shaping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ren’s cognitive develop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was an early constructivist theorist in psycholog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 Vygotsky, the constructio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knowledge is not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 individual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struction proces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pared with Piaget, Vygotsky also placed a stronger emphasis on culture in shaping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ren’s cognitive develop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ygotsky believed instruction by more knowledgeable peers or adults is at the heart of cognitive develop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ygotsky believed that learning precedes develop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ygotsky thought egocentric speech is the means by which children move from being regulated by others to being regulated by their own thinking process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ygotsky’s theory places much less emphasis on physical maturation or innate biological processes than most other developmental theori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ygotsky thought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private speech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serves an important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lf-regulatory functio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Picture 2"/>
          <p:cNvPicPr/>
          <p:nvPr/>
        </p:nvPicPr>
        <p:blipFill>
          <a:blip r:embed="rId1"/>
          <a:stretch/>
        </p:blipFill>
        <p:spPr>
          <a:xfrm>
            <a:off x="1576440" y="1698480"/>
            <a:ext cx="598968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oth Piaget and Vygotsky emphasized the importanc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peers in children’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gnitive develop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Picture 2"/>
          <p:cNvPicPr/>
          <p:nvPr/>
        </p:nvPicPr>
        <p:blipFill>
          <a:blip r:embed="rId1"/>
          <a:stretch/>
        </p:blipFill>
        <p:spPr>
          <a:xfrm>
            <a:off x="1392120" y="1089000"/>
            <a:ext cx="6357960" cy="4680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believed that children actively construct their own knowledge of the environment using what they already know to interpret new events and object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and Vygotsky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phasized that childre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re not passive recipient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knowledge and recognized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he value of play and activity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cognitive develop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Picture 3"/>
          <p:cNvPicPr/>
          <p:nvPr/>
        </p:nvPicPr>
        <p:blipFill>
          <a:blip r:embed="rId1"/>
          <a:stretch/>
        </p:blipFill>
        <p:spPr>
          <a:xfrm>
            <a:off x="-1135080" y="1630440"/>
            <a:ext cx="11387160" cy="39621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457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hild’s learning is shaped by their social influenc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ree or disagree and W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was a stage theorist who divided cognitive development into four major stages: sensorimotor, preoperations, concrete operations, and formal operation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5:45:56Z</dcterms:created>
  <dc:creator>McGraw-Hill Higher Education</dc:creator>
  <dc:description/>
  <dc:language>en-US</dc:language>
  <cp:lastModifiedBy>anne marie</cp:lastModifiedBy>
  <dcterms:modified xsi:type="dcterms:W3CDTF">2011-10-26T17:53:35Z</dcterms:modified>
  <cp:revision>59</cp:revision>
  <dc:subject/>
  <dc:title>Chapter 3</dc:title>
</cp:coreProperties>
</file>